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Credit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AutoShape 7">
            <a:hlinkClick r:id="" action="ppaction://hlinkshowjump?jump=previousslide"/>
          </p:cNvPr>
          <p:cNvSpPr/>
          <p:nvPr/>
        </p:nvSpPr>
        <p:spPr>
          <a:xfrm>
            <a:off x="60958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" name="AutoShape 8">
            <a:hlinkClick r:id="" action="ppaction://hlinkshowjump?jump=nextslide"/>
          </p:cNvPr>
          <p:cNvSpPr/>
          <p:nvPr/>
        </p:nvSpPr>
        <p:spPr>
          <a:xfrm>
            <a:off x="69343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AutoShape 9">
            <a:hlinkClick r:id="" action="ppaction://hlinkshowjump?jump=firstslide"/>
          </p:cNvPr>
          <p:cNvSpPr/>
          <p:nvPr/>
        </p:nvSpPr>
        <p:spPr>
          <a:xfrm>
            <a:off x="76201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AutoShape 10">
            <a:hlinkClick r:id="" action="ppaction://hlinkshowjump?jump=endshow"/>
          </p:cNvPr>
          <p:cNvSpPr/>
          <p:nvPr/>
        </p:nvSpPr>
        <p:spPr>
          <a:xfrm>
            <a:off x="83059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Rectangle 11">
            <a:hlinkClick r:id="rId3"/>
          </p:cNvPr>
          <p:cNvSpPr/>
          <p:nvPr/>
        </p:nvSpPr>
        <p:spPr>
          <a:xfrm>
            <a:off x="4952880" y="6629400"/>
            <a:ext cx="838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3.xml"/><Relationship Id="rId3" Type="http://schemas.openxmlformats.org/officeDocument/2006/relationships/image" Target="../media/image5.jpeg"/><Relationship Id="rId4" Type="http://schemas.openxmlformats.org/officeDocument/2006/relationships/slide" Target="slide12.xml"/><Relationship Id="rId5" Type="http://schemas.openxmlformats.org/officeDocument/2006/relationships/image" Target="../media/image2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528480" y="1370160"/>
            <a:ext cx="808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Understand the claim, or opinion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ad through the article to make sure you understand the issue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Evaluating an Argu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28480" y="2819520"/>
            <a:ext cx="5262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dentify the author’s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1" action="ppaction://hlinksldjump"/>
              </a:rPr>
              <a:t>claim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opini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the thing the author is trying to prove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4114800" y="2489040"/>
            <a:ext cx="152280" cy="101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"/>
          <p:cNvSpPr/>
          <p:nvPr/>
        </p:nvSpPr>
        <p:spPr>
          <a:xfrm>
            <a:off x="528480" y="4094280"/>
            <a:ext cx="52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state the author’s opinion in your own words.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47" name="Picture 18" descr=""/>
          <p:cNvPicPr/>
          <p:nvPr/>
        </p:nvPicPr>
        <p:blipFill>
          <a:blip r:embed="rId3"/>
          <a:stretch/>
        </p:blipFill>
        <p:spPr>
          <a:xfrm>
            <a:off x="5181480" y="3784680"/>
            <a:ext cx="152640" cy="101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7" descr="c05inf008"/>
          <p:cNvPicPr/>
          <p:nvPr/>
        </p:nvPicPr>
        <p:blipFill>
          <a:blip r:embed="rId4"/>
          <a:stretch/>
        </p:blipFill>
        <p:spPr>
          <a:xfrm>
            <a:off x="6067440" y="2457360"/>
            <a:ext cx="25430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Loaded words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re intended to persuade readers by appealing to their emotions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Evaluating an Argu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28480" y="2666880"/>
            <a:ext cx="1071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hero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5638680" y="195588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1905120" y="3581280"/>
            <a:ext cx="1218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victim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581280" y="2666880"/>
            <a:ext cx="1524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freedom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528480" y="4648320"/>
            <a:ext cx="1524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urvivor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581280" y="4648320"/>
            <a:ext cx="1752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acrifice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334120" y="3581280"/>
            <a:ext cx="1523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reckles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7086600" y="2666880"/>
            <a:ext cx="1523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greed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238880" y="4648320"/>
            <a:ext cx="1371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poison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24" name="Picture 19" descr=""/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0"/>
          <p:cNvSpPr/>
          <p:nvPr/>
        </p:nvSpPr>
        <p:spPr>
          <a:xfrm>
            <a:off x="5791320" y="6095880"/>
            <a:ext cx="2438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ncedote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personalize an issue and often put a human face on cold facts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Evaluating an Argu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533520" y="2394000"/>
            <a:ext cx="8082000" cy="1099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When my son had a seizure, the 911 operator really helped me stay calm and focused. She gave clear instructions and let me know that help was on the way.  </a:t>
            </a:r>
            <a:endParaRPr b="0" lang="en-US" sz="22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1"/>
          <p:cNvSpPr/>
          <p:nvPr/>
        </p:nvSpPr>
        <p:spPr>
          <a:xfrm>
            <a:off x="5791320" y="6095880"/>
            <a:ext cx="2438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ias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a prejudice toward one side of an issue.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Evaluating an Argu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8077320" y="160020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28480" y="192240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nbiased writers carefully weigh the evidence before arriving at an opinion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28480" y="28353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iased writers present only one side of an issue.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5791320" y="251460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4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5791320" y="6095880"/>
            <a:ext cx="2590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ntent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the purpose for writing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Evaluating an Argu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5867280" y="160020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528480" y="192240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the writer trying to inform readers about a topic or situation?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528480" y="28353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the writer trying to persuade readers to change their minds or to take action?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4"/>
          <a:stretch/>
        </p:blipFill>
        <p:spPr>
          <a:xfrm>
            <a:off x="4038480" y="251460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5"/>
          <p:cNvSpPr/>
          <p:nvPr/>
        </p:nvSpPr>
        <p:spPr>
          <a:xfrm>
            <a:off x="5791320" y="6095880"/>
            <a:ext cx="2590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28480" y="1370160"/>
            <a:ext cx="808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dentify the support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present persuasive arguments, an author must support his or her claims. Look for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Evaluating an Argu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666880" y="28353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logical appeal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152640" cy="101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6024600" y="304812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2671920" y="3368520"/>
            <a:ext cx="59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motional appeal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55" name="Picture 25" descr="c05inf009"/>
          <p:cNvPicPr/>
          <p:nvPr/>
        </p:nvPicPr>
        <p:blipFill>
          <a:blip r:embed="rId3"/>
          <a:stretch/>
        </p:blipFill>
        <p:spPr>
          <a:xfrm>
            <a:off x="533520" y="2835360"/>
            <a:ext cx="2130480" cy="31082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6">
            <a:hlinkClick r:id="rId4" action="ppaction://hlinksldjump"/>
          </p:cNvPr>
          <p:cNvSpPr/>
          <p:nvPr/>
        </p:nvSpPr>
        <p:spPr>
          <a:xfrm>
            <a:off x="60958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Logical appeals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clude reasons and evidence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Evaluating an Argu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28480" y="19209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easons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re statements that explain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why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he author holds an opinion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8229600" y="160020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533520" y="28353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vidence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the information that authors use to support their reasons. Evidence include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28480" y="3753000"/>
            <a:ext cx="81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indent="-33804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act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5181480" y="251460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533520" y="4314960"/>
            <a:ext cx="81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indent="-33804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tatistics (number facts)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33520" y="4862520"/>
            <a:ext cx="81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indent="-33804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ample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33520" y="5410080"/>
            <a:ext cx="81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indent="-33804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quotations from or opinions of expert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tretch/>
        </p:blipFill>
        <p:spPr>
          <a:xfrm>
            <a:off x="7620120" y="342900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4"/>
          <a:stretch/>
        </p:blipFill>
        <p:spPr>
          <a:xfrm>
            <a:off x="2514600" y="396252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"/>
          <p:cNvPicPr/>
          <p:nvPr/>
        </p:nvPicPr>
        <p:blipFill>
          <a:blip r:embed="rId5"/>
          <a:stretch/>
        </p:blipFill>
        <p:spPr>
          <a:xfrm>
            <a:off x="5486400" y="4546440"/>
            <a:ext cx="152280" cy="101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"/>
          <p:cNvPicPr/>
          <p:nvPr/>
        </p:nvPicPr>
        <p:blipFill>
          <a:blip r:embed="rId6"/>
          <a:stretch/>
        </p:blipFill>
        <p:spPr>
          <a:xfrm>
            <a:off x="3276720" y="5105520"/>
            <a:ext cx="152280" cy="10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528480" y="1370160"/>
            <a:ext cx="770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motional appeal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play on readers’ emotions rather than their reason. Emotional appeals include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Evaluating an Argu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28480" y="2666880"/>
            <a:ext cx="8082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1" action="ppaction://hlinksldjump"/>
              </a:rPr>
              <a:t>loaded word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(words with strong emotional connotations)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1981080" y="228600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28480" y="4222800"/>
            <a:ext cx="8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motional appeals can be effective but shouldn’t be relied on too heavily. Arguments that rely heavily on emotional appeals rather than logic are usually weak.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3"/>
          <a:stretch/>
        </p:blipFill>
        <p:spPr>
          <a:xfrm>
            <a:off x="3352680" y="327672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533520" y="3581280"/>
            <a:ext cx="808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anecdote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(brief stories)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78" name="Picture 10" descr=""/>
          <p:cNvPicPr/>
          <p:nvPr/>
        </p:nvPicPr>
        <p:blipFill>
          <a:blip r:embed="rId5"/>
          <a:stretch/>
        </p:blipFill>
        <p:spPr>
          <a:xfrm>
            <a:off x="5257800" y="3809880"/>
            <a:ext cx="152280" cy="10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520" y="1370160"/>
            <a:ext cx="808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Evaluate the evidence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good argument must be backed up by solid evidence. As you read, ask yourself: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Evaluating an Argu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33520" y="28353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oes the evidence directly support the author’s reasons?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6477120" y="251460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533520" y="37497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oes the author present sufficient evidence to back up generalizations and prove the claim?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33520" y="4664160"/>
            <a:ext cx="8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as the author loaded the argument with emotional appeals instead of providing valid evidence?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8381880" y="434340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2">
            <a:hlinkClick r:id="rId4" action="ppaction://hlinksldjump"/>
          </p:cNvPr>
          <p:cNvSpPr/>
          <p:nvPr/>
        </p:nvSpPr>
        <p:spPr>
          <a:xfrm>
            <a:off x="60958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28480" y="1370160"/>
            <a:ext cx="808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dentify the author’s intent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ink about why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author is making this argument.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Evaluating an Argu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2514600" y="2489040"/>
            <a:ext cx="152280" cy="101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528480" y="3733920"/>
            <a:ext cx="5262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ay attention to how the author’s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intent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purpose, influences the tone of the argument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92" name="Picture 14" descr="ETE_017.jpg"/>
          <p:cNvPicPr/>
          <p:nvPr/>
        </p:nvPicPr>
        <p:blipFill>
          <a:blip r:embed="rId3"/>
          <a:stretch/>
        </p:blipFill>
        <p:spPr>
          <a:xfrm>
            <a:off x="6181560" y="2597040"/>
            <a:ext cx="1514520" cy="2271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5"/>
          <p:cNvSpPr/>
          <p:nvPr/>
        </p:nvSpPr>
        <p:spPr>
          <a:xfrm>
            <a:off x="528480" y="2819520"/>
            <a:ext cx="5262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ook for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bia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, or prejudice, on the part of the author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5"/>
          <a:stretch/>
        </p:blipFill>
        <p:spPr>
          <a:xfrm>
            <a:off x="5181480" y="3429000"/>
            <a:ext cx="152640" cy="101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c05inf007"/>
          <p:cNvPicPr/>
          <p:nvPr/>
        </p:nvPicPr>
        <p:blipFill>
          <a:blip r:embed="rId6"/>
          <a:stretch/>
        </p:blipFill>
        <p:spPr>
          <a:xfrm>
            <a:off x="7048440" y="3641760"/>
            <a:ext cx="1562040" cy="227808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17"/>
          <p:cNvSpPr/>
          <p:nvPr/>
        </p:nvSpPr>
        <p:spPr>
          <a:xfrm>
            <a:off x="60958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528480" y="1370160"/>
            <a:ext cx="808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reate a chart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dentify an argument’s strengths and weaknesses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Evaluating an Argu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2514600"/>
          <a:ext cx="8076960" cy="3078000"/>
        </p:xfrm>
        <a:graphic>
          <a:graphicData uri="http://schemas.openxmlformats.org/drawingml/2006/table">
            <a:tbl>
              <a:tblPr/>
              <a:tblGrid>
                <a:gridCol w="4038480"/>
                <a:gridCol w="403848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valuating an Author’s Argument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33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Claim or Opinion: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33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Logical Appeals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Reason 1: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vidence: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Reason 2: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vidence: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motional Appeals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Loaded Words: 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Anecdotes: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Tone: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33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161" descr=""/>
          <p:cNvPicPr/>
          <p:nvPr/>
        </p:nvPicPr>
        <p:blipFill>
          <a:blip r:embed="rId1"/>
          <a:stretch/>
        </p:blipFill>
        <p:spPr>
          <a:xfrm>
            <a:off x="8534520" y="213372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62"/>
          <p:cNvSpPr/>
          <p:nvPr/>
        </p:nvSpPr>
        <p:spPr>
          <a:xfrm>
            <a:off x="6591240" y="561960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2" name="AutoShape 165"/>
          <p:cNvSpPr/>
          <p:nvPr/>
        </p:nvSpPr>
        <p:spPr>
          <a:xfrm>
            <a:off x="60958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855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638680" y="594360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791320" y="5943600"/>
            <a:ext cx="1752480" cy="914400"/>
          </a:xfrm>
          <a:custGeom>
            <a:avLst/>
            <a:gdLst>
              <a:gd name="textAreaLeft" fmla="*/ 59040 w 1752480"/>
              <a:gd name="textAreaRight" fmla="*/ 1693440 w 1752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89" h="21600">
                <a:moveTo>
                  <a:pt x="0" y="0"/>
                </a:moveTo>
                <a:lnTo>
                  <a:pt x="41389" y="0"/>
                </a:lnTo>
                <a:lnTo>
                  <a:pt x="41389" y="21600"/>
                </a:lnTo>
                <a:lnTo>
                  <a:pt x="0" y="21600"/>
                </a:lnTo>
                <a:close/>
              </a:path>
              <a:path fill="lightenLess" w="41389" h="21600">
                <a:moveTo>
                  <a:pt x="0" y="0"/>
                </a:moveTo>
                <a:lnTo>
                  <a:pt x="41389" y="0"/>
                </a:lnTo>
                <a:lnTo>
                  <a:pt x="39989" y="1400"/>
                </a:lnTo>
                <a:lnTo>
                  <a:pt x="1400" y="1400"/>
                </a:lnTo>
                <a:close/>
              </a:path>
              <a:path fill="darken" w="41389" h="21600">
                <a:moveTo>
                  <a:pt x="41389" y="0"/>
                </a:moveTo>
                <a:lnTo>
                  <a:pt x="41389" y="21600"/>
                </a:lnTo>
                <a:lnTo>
                  <a:pt x="39989" y="20200"/>
                </a:lnTo>
                <a:lnTo>
                  <a:pt x="39989" y="1400"/>
                </a:lnTo>
                <a:close/>
              </a:path>
              <a:path fill="darkenLess" w="41389" h="21600">
                <a:moveTo>
                  <a:pt x="41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89" y="20200"/>
                </a:lnTo>
                <a:close/>
              </a:path>
              <a:path fill="lighten" w="41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Evaluating an Argu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520" y="1370160"/>
            <a:ext cx="808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laim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uthors often present their claims in the form of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generalization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broad statements that apply to many situations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5791320" y="5943600"/>
            <a:ext cx="2514600" cy="914400"/>
          </a:xfrm>
          <a:custGeom>
            <a:avLst/>
            <a:gdLst>
              <a:gd name="textAreaLeft" fmla="*/ 59040 w 2514600"/>
              <a:gd name="textAreaRight" fmla="*/ 2455560 w 2514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9385" h="21600">
                <a:moveTo>
                  <a:pt x="0" y="0"/>
                </a:moveTo>
                <a:lnTo>
                  <a:pt x="59385" y="0"/>
                </a:lnTo>
                <a:lnTo>
                  <a:pt x="59385" y="21600"/>
                </a:lnTo>
                <a:lnTo>
                  <a:pt x="0" y="21600"/>
                </a:lnTo>
                <a:close/>
              </a:path>
              <a:path fill="lightenLess" w="59385" h="21600">
                <a:moveTo>
                  <a:pt x="0" y="0"/>
                </a:moveTo>
                <a:lnTo>
                  <a:pt x="59385" y="0"/>
                </a:lnTo>
                <a:lnTo>
                  <a:pt x="57985" y="1400"/>
                </a:lnTo>
                <a:lnTo>
                  <a:pt x="1400" y="1400"/>
                </a:lnTo>
                <a:close/>
              </a:path>
              <a:path fill="darken" w="59385" h="21600">
                <a:moveTo>
                  <a:pt x="59385" y="0"/>
                </a:moveTo>
                <a:lnTo>
                  <a:pt x="59385" y="21600"/>
                </a:lnTo>
                <a:lnTo>
                  <a:pt x="57985" y="20200"/>
                </a:lnTo>
                <a:lnTo>
                  <a:pt x="57985" y="1400"/>
                </a:lnTo>
                <a:close/>
              </a:path>
              <a:path fill="darkenLess" w="59385" h="21600">
                <a:moveTo>
                  <a:pt x="59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5" y="20200"/>
                </a:lnTo>
                <a:close/>
              </a:path>
              <a:path fill="lighten" w="59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2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528480" y="3413160"/>
            <a:ext cx="8082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Laws requiring cyclists to wear helmets save lives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533520" y="4114800"/>
            <a:ext cx="8082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utoring programs help students earn higher grades and build self-esteem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3"/>
          <a:stretch/>
        </p:blipFill>
        <p:spPr>
          <a:xfrm>
            <a:off x="3352680" y="2819520"/>
            <a:ext cx="152640" cy="10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35:01Z</dcterms:created>
  <dc:creator>Amber </dc:creator>
  <dc:description/>
  <dc:language>en-US</dc:language>
  <cp:lastModifiedBy>Dan Olsen</cp:lastModifiedBy>
  <dcterms:modified xsi:type="dcterms:W3CDTF">2010-11-21T23:15:55Z</dcterms:modified>
  <cp:revision>58</cp:revision>
  <dc:subject/>
  <dc:title>Slide 1</dc:title>
</cp:coreProperties>
</file>